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type.wav" ContentType="audio/x-wav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379-32B4-445B-B517-927550C3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19A-83A3-4416-8B4A-2586D905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3F0-CFD4-494B-98D2-D05E039B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179-5D71-45AA-817F-C9B97BFB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E0E-3AA3-4C16-9314-6654E9C8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A38-D6BD-416A-A0BA-91D5D3B8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E47-9DCA-4202-B695-DC210830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723-D59C-4711-8D4C-AF5F188A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9BF-10B8-4255-B188-C835D372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2B9-D0B2-4C9A-8B27-C32CFA7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966-0A7E-4B0B-9E8D-970FB6D9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076-9AB4-45FB-B801-8A3CB5A6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729-492A-4D4F-8244-22FC03F6E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zink.ru-fizkultura_witch_doctor.mp3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971640" y="119700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ездочё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987640" y="263700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"/>
              </a:rPr>
              <a:t>Электронная физминутка</a:t>
            </a:r>
            <a:endParaRPr b="0" lang="en-US" sz="1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8"/>
          <p:cNvSpPr/>
          <p:nvPr/>
        </p:nvSpPr>
        <p:spPr>
          <a:xfrm>
            <a:off x="824400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1258920" y="1125360"/>
            <a:ext cx="0" cy="475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1332000" y="1125360"/>
            <a:ext cx="3311280" cy="201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4643280" y="1197000"/>
            <a:ext cx="352908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" name="Line 7"/>
          <p:cNvSpPr/>
          <p:nvPr/>
        </p:nvSpPr>
        <p:spPr>
          <a:xfrm>
            <a:off x="1258920" y="112536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547640" y="4076640"/>
            <a:ext cx="64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3780000" y="2421000"/>
            <a:ext cx="2016000" cy="143964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4103640" y="2498400"/>
            <a:ext cx="1369800" cy="1356120"/>
            <a:chOff x="4103640" y="2498400"/>
            <a:chExt cx="1369800" cy="1356120"/>
          </a:xfrm>
        </p:grpSpPr>
        <p:sp>
          <p:nvSpPr>
            <p:cNvPr id="54" name="AutoShape 18"/>
            <p:cNvSpPr/>
            <p:nvPr/>
          </p:nvSpPr>
          <p:spPr>
            <a:xfrm>
              <a:off x="4284720" y="270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55" name="AutoShape 19"/>
            <p:cNvSpPr/>
            <p:nvPr/>
          </p:nvSpPr>
          <p:spPr>
            <a:xfrm rot="2241600">
              <a:off x="4284360" y="270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692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5" name="Line 22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8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7" name="Oval 3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6"/>
          <p:cNvSpPr/>
          <p:nvPr/>
        </p:nvSpPr>
        <p:spPr>
          <a:xfrm rot="16200000">
            <a:off x="468360" y="342864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108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70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1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2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73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4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5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76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77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78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79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0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1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82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3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4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85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6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87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88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89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0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91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2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3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94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5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  <p:grpSp>
        <p:nvGrpSpPr>
          <p:cNvPr id="96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97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98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282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2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42920" y="2571480"/>
            <a:ext cx="1369800" cy="1356120"/>
            <a:chOff x="142920" y="2571480"/>
            <a:chExt cx="1369800" cy="1356120"/>
          </a:xfrm>
        </p:grpSpPr>
        <p:sp>
          <p:nvSpPr>
            <p:cNvPr id="100" name="AutoShape 3"/>
            <p:cNvSpPr/>
            <p:nvPr/>
          </p:nvSpPr>
          <p:spPr>
            <a:xfrm>
              <a:off x="324000" y="278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2241600">
              <a:off x="323640" y="278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29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андети"/>
          <p:cNvPicPr/>
          <p:nvPr/>
        </p:nvPicPr>
        <p:blipFill>
          <a:blip r:embed="rId1"/>
          <a:stretch/>
        </p:blipFill>
        <p:spPr>
          <a:xfrm>
            <a:off x="3348000" y="450864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95bfc5077e00b715bb415d0f590fc15"/>
          <p:cNvPicPr/>
          <p:nvPr/>
        </p:nvPicPr>
        <p:blipFill>
          <a:blip r:embed="rId2"/>
          <a:stretch/>
        </p:blipFill>
        <p:spPr>
          <a:xfrm>
            <a:off x="3995640" y="3068640"/>
            <a:ext cx="870120" cy="74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dcedc575fd11e632e1f1619ab8cd005"/>
          <p:cNvPicPr/>
          <p:nvPr/>
        </p:nvPicPr>
        <p:blipFill>
          <a:blip r:embed="rId3"/>
          <a:stretch/>
        </p:blipFill>
        <p:spPr>
          <a:xfrm>
            <a:off x="1403280" y="3141720"/>
            <a:ext cx="865080" cy="777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2050920" y="1268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06" name="Picture 11" descr="796606407cb2d4efe937045b5298e54a"/>
          <p:cNvPicPr/>
          <p:nvPr/>
        </p:nvPicPr>
        <p:blipFill>
          <a:blip r:embed="rId4"/>
          <a:stretch/>
        </p:blipFill>
        <p:spPr>
          <a:xfrm>
            <a:off x="6877080" y="2852640"/>
            <a:ext cx="85716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33:42Z</dcterms:created>
  <dc:creator>Масько</dc:creator>
  <dc:description/>
  <dc:language>en-US</dc:language>
  <cp:lastModifiedBy>Хасанова </cp:lastModifiedBy>
  <dcterms:modified xsi:type="dcterms:W3CDTF">2021-03-04T15:51:40Z</dcterms:modified>
  <cp:revision>23</cp:revision>
  <dc:subject/>
  <dc:title>Слайд 1</dc:title>
</cp:coreProperties>
</file>